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er to peer and teacher to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acilitating and one recording collecting spontaneously what we do ourselves as providing responding to students in the mo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D59D-EBF7-42BA-BF9C-D6025BEEA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B0F1-5F35-4FE2-B5C1-636D2DD0C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BDD2-5A15-4576-A2C5-40802C04E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E823-A6A5-4F89-A77E-34FC8D7BF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8A48-3742-4235-873E-B21798897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48A2-544D-442C-A680-6A5C21F9C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0848-1F43-4AAD-916D-BF1AB1E5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5C09-02D7-467E-A189-4890EDDAD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5617-1CDE-492D-8B21-444A73A96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A12C-729A-404A-BB5D-7D267374B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0442-8733-49F6-A175-B04FA4823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A939-B5A8-43FF-A72F-D691BCD5F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346-4637-45B5-A399-66BE79FC86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F897-5503-4F9B-802C-FE2BA566AB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BA7E-2884-4C84-8074-57C47BFE9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991F-5047-4946-9784-6B22D3DB8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7B4-0591-45B1-97F7-CA44B85472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E849-9D98-4C06-BA7F-0B9DA4460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AD0-449F-4B19-A699-37E70DAB97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9C86-50F5-455C-B57F-89A2355221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C60D-06E1-4C41-A887-F301DF9C3F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7C1-9135-4D56-BD6F-61370762F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CDF9-0446-40B0-A83B-BAE6541FAF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215E-4909-4073-A463-5C18CE56DA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D328-D293-48D6-A794-A6976AA298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E524-7C83-44AD-8142-7CBC1EFE73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569E-A206-4B21-8CAC-51A64C1BEA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3385-B970-4C49-BE0C-2B419A1952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DAF-4B26-46A8-8459-40EF4B7DE7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E890-C3D9-4CE6-A815-9DFC6F9052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3D4C-3906-4C5B-AFE8-2E98ADD335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2408-3CFF-471C-9651-5ADCA79AA9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C92-4A6A-4486-9FDE-C3FB4F0D1E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977C-2ECD-47EA-8593-04AB13429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8T23:36:14Z</dcterms:modified>
  <cp:revision>74</cp:revision>
  <dc:subject/>
  <dc:title>&lt;Title&gt;</dc:title>
</cp:coreProperties>
</file>